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5E4C-1800-4B36-A72C-EBBDD218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C5B0-3515-438A-8ED0-73BB873F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2BC1-554B-4E9B-8CD8-5118356F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16AC-E76A-43D1-A7DB-5A9BDBB8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7069-2A56-4C11-9204-D7C29F3BD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D8FC-E26A-4E42-95E1-8D006F8E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8CC0-E865-45DD-9EC7-9D6BB393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18D5-65CC-4FB1-BDB3-1F02D8AB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6977-7499-4D8C-A88C-9AB54F1A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D1B1-6081-4A92-8B44-47BDD219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5F1A-4DE2-41C3-A5C1-81367194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5894-2373-416C-ABFC-66E8F374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A317-E1D5-418B-9A53-98973BE4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54DD-0AB1-4D37-8B9D-23AE4E2F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597D-D79F-4089-8BC4-ADD744F8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9709-439D-4085-BD6C-7B289384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059F-AAB8-467F-A823-BAE8A272F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42E4-7597-42A9-9DF5-84368667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5142-F852-4DCF-A870-261A62C0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A3D4-0A1C-4C94-9F9D-9F306429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52FE-D20A-4B4A-8C28-8B5817A4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03F5-6258-4A20-B026-9F770ED8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A51E-06FE-4106-86A2-94F13E0D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FC51-BD03-4BF9-9152-BDF672AB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CDC4-EC75-4083-B49E-76CA1CC1C9D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4682-B807-413D-95F6-ABBE86FDFC7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ill There Was No Remedy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* * *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Judah Alon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70106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7, Lesson 2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162-16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Kings 24-25; Jer. 24; 29; 27; 30-3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5D2E-3871-47D3-B621-C86BD575FACD}" type="slidenum">
              <a:t>1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ehoiakim’s Last Day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Kgs.24:1-6; Jer.22:18-1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ed Nebuchadnezzar 3 y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n Rebelled Against H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bably when the Egyptians defeated the Babylonians in batt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buchadnezzar went home to lick his wounds and rebuild his arm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his time Jehoiakim di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Nebuchadnezzar returned, Jehoiachin was ruling in Jerusal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CCE2-8C28-4840-8051-2139DB2C6539}" type="slidenum">
              <a:t>2</a:t>
            </a:fld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ehoiachin (Coniah, Jeconiah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igned 3 months (wicked) – 2 Kgs.24:8-15; 25:27-30; 2 Chron. 36:9-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dah’s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u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cked by Nebuchadnezz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remiah said “Record this man as if he were childless” – Jer. 22:24-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e would reign in Jerusalem from Jehoiachin (Coniah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et, a descendant of David would branch out and be “The Lord Our Righteousness” - 23:5f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717E-9A58-4B40-90F5-91F05EF3E0A7}" type="slidenum">
              <a:t>3</a:t>
            </a:fld>
          </a:p>
        </p:txBody>
      </p:sp>
    </p:spTree>
  </p:cSld>
  <p:transition spd="med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ehoiachin (Coniah, Jeconiah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igned 3 months (wicked)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Kings 24:8-15; 25:27-30;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Chron. 36:9-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tives were taken, including Ezeki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7 years into his exile, Jehoiachin was released from prison – 2 Kings 25:27-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9E8D-2E0E-4FA5-AE9C-A6CCE96BFD71}" type="slidenum">
              <a:t>4</a:t>
            </a:fld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Zedekiah (Mattaniah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 years (wicked) – 2 Kings 24:17 – 25:7;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Chron. 36:10-2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cle to Jehoiach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son of Josi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ointed by Nebuchadnezzar as a pupp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remiah’s vision of two baskets of fig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Jer. 24:1-1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od people will be preserved in Babyl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edekiah, and others like him, would be curs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067A-FFED-4F5B-96BE-45AC579645F9}" type="slidenum">
              <a:t>5</a:t>
            </a:fld>
          </a:p>
        </p:txBody>
      </p:sp>
    </p:spTree>
  </p:cSld>
  <p:transition spd="med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remiah’s Message to the Captiv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r. 29:1-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fort: You will return in 70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demnation: Jerusalem’s sinful people and the lying, immoral prophets in Babyl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81B0-509D-49EF-9EA0-A1AFA67F7982}" type="slidenum">
              <a:t>6</a:t>
            </a:fld>
          </a:p>
        </p:txBody>
      </p:sp>
    </p:spTree>
  </p:cSld>
  <p:transition spd="med"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mise of a Better Da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 of the gloom of their captivity there was a wonderful hope to hold on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ould return home one 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ould have fellowship with G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ould have a new and better covenant with Him – Jer. 30-3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7192-7625-46FF-A100-C47C35C88675}" type="slidenum">
              <a:t>7</a:t>
            </a:fld>
          </a:p>
        </p:txBody>
      </p:sp>
    </p:spTree>
  </p:cSld>
  <p:transition spd="med"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nflict Between Jeremiah and Hananiah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remiah 27:1 – 28: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remiah spoke of surrender and a yoke of bond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naniah spoke of peace in two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remiah said Hananiah would die that very y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naniah died in two mont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3BDA-9EF1-4ACE-A842-965E9F1ADC2C}" type="slidenum">
              <a:t>8</a:t>
            </a:fld>
          </a:p>
        </p:txBody>
      </p:sp>
    </p:spTree>
  </p:cSld>
  <p:transition spd="med"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20:19:13Z</dcterms:created>
  <dc:creator>Terry W. Benton</dc:creator>
  <dc:description/>
  <dc:language>en-US</dc:language>
  <cp:lastModifiedBy>Frank D Vines</cp:lastModifiedBy>
  <dcterms:modified xsi:type="dcterms:W3CDTF">2006-03-26T14:52:38Z</dcterms:modified>
  <cp:revision>7</cp:revision>
  <dc:subject/>
  <dc:title>Till There Was No Remedy Divided Kingdom - 2</dc:title>
</cp:coreProperties>
</file>